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FB5-9CC7-4581-8AB4-5B639978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FE0-407D-4016-BA29-619B3FF9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1D3-6288-4CC4-A77B-EBD7F895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804-2D84-4624-9906-8215AB8C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14E-23FF-4100-BAC3-FBB611E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CD9-58EF-42E2-B927-81213AC9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E21-8D5E-4348-BDFF-C170683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AC9-6EE7-4E84-8C83-90085A00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56D-69AF-4B0F-82DA-E101D16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C2F-D90D-42A8-8D27-FC4A4EE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47C-93F9-4392-8583-59422D3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C2A-E4F5-4E05-8289-5A20EB8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AE0-8F70-452A-8915-FC331952A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89000"/>
            <a:ext cx="78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s joven, cuando tenía ocho años, vivía en las afueras de Londres, en un pueblo pequeño que se llama Leatherhead. Estudiaba a Danes Hill, pero no me gustaba mucho porque había muchas personas antipáticas y los profesores eran muy estrictas- habían muchos deberes. Yo era un alumno bastante tí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637000"/>
            <a:ext cx="777564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old was the pers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did he used to live (3 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school did he used to go 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did he used to think of it, and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were the teachers like (2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was he like as a pupi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i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do we us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lking about what we did or  used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1148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Cuando iba a mi escuela primaria llevaba una falda 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talk about an action that was going on when something else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8195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Tomaba mi desayuno cuando sonó el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7242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staba tomando mi desayuno cuando sonó el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1052640"/>
            <a:ext cx="6553080" cy="470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through the formation practice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a script, in English, explai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imperfect is used for and what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form the imperfect, including giving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irregulars are and how to form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89000"/>
            <a:ext cx="78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yo era 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ás joven, cuando tenía ocho años, vivía en las afueras de Londres, en un pueblo pequeño que se llama Leatherhead. Estudiaba a Danes Hill, pero no me gustaba mucho porque había muchas personas antipáticas y los profesores eran muy estrictas- habían muchos deberes. Yo era un alumno bastante tí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637000"/>
            <a:ext cx="777564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ol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pers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did 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ive (3 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school did 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o 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did 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ed 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ink of it, and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teachers like (2detail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e like as a pupi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5661000"/>
            <a:ext cx="741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is story about the past or the present? How can you tell IN ENG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661000"/>
            <a:ext cx="741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it describe one-off events or ongoing events that happened over a long period of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) To read 2 texts describing a past child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) to learn what the imperfect tense means and how to for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do practice exercises on the im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write a script for and record a podcast on the uses and creation of the imperfec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989000"/>
            <a:ext cx="71294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el fin de semana me encantaba jugar al 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útbol para mi equipo local. Jugaba de centrocampista porque era lo más fuerte. Y claro, era aficionado de Liverpool porque mi tío era de Liverpool. Mi padre trabajaba mucho, y no le veía mucho, pero tenía muchos amigos y la vida era muy dive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20640"/>
            <a:ext cx="6804000" cy="764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verb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re used to describe an action that WAS or used to happ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5084640"/>
            <a:ext cx="6804000" cy="764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n you spot a pattern? Is there a difference between –ar verbs and –er / -ir ver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590920"/>
            <a:ext cx="8543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alking abou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hat you used to 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16765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baj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a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m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-er and -i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Im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6002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514600"/>
            <a:ext cx="77724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ér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s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bbe0e3"/>
                </a:solidFill>
                <a:latin typeface="Comic Sans MS"/>
              </a:rPr>
              <a:t>e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0:53:17Z</dcterms:created>
  <dc:creator>Owner1</dc:creator>
  <dc:description/>
  <dc:language>en-US</dc:language>
  <cp:lastModifiedBy>Owner1</cp:lastModifiedBy>
  <dcterms:modified xsi:type="dcterms:W3CDTF">2008-10-17T11:21:57Z</dcterms:modified>
  <cp:revision>2</cp:revision>
  <dc:subject/>
  <dc:title>Slide 1</dc:title>
</cp:coreProperties>
</file>